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04FD-803C-4EBD-BAC7-01D6593E2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06EB-0D4D-43F3-A955-379B52238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E623-E6CB-4356-A7B9-BEC0FDE0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5E5-D511-4830-AD7B-8E8E444E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C5E-0155-46D6-8AF8-60ACC3CE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361-68B4-4F41-9021-E8314889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BA6-F9FA-4BA8-924F-6597FB87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F9D-B70D-4E89-8120-A66DEEEC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B89-66EE-4B57-AFDC-6E7B91F7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6BE-DD81-4165-8C5C-5044CD19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972-12D8-4F61-B023-3AC7A802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C0F-3B24-4CB2-AAE5-9191AC49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AF9-7986-48BF-89A1-DCB61178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DA8-A3A5-4305-BDD4-36416BD2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82F-BDE6-445B-8F7C-BE88D7C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B6F6-5630-43F2-B54B-ED7CEFA28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ink about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9520" y="1442880"/>
            <a:ext cx="865656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 wish for you to make me a gold crown.  The mass of the crown is 2.267 kg and it shall be of pure Gold.  If you were to pass a 600mA electric current through molten AuCl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how long will it take to make enough gold for my crown?  Express your answer in day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information:  1A = 1 C/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rge on one mole of electrons  ≈ 96 500 C/mol e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us…Is there any problem that you can foresee with this proces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think of a solution????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-96840" y="330120"/>
            <a:ext cx="922500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est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09520" y="1268280"/>
            <a:ext cx="865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vanic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lytic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aday’s Constant and Stoichi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ng Spontane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ng Cell Pot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lysis of Aqueous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hand Cell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Electrochemic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ing Half-Reactions in Acidic or Bas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Reac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ation Numb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8:39:10Z</dcterms:created>
  <dc:creator>FradkiL</dc:creator>
  <dc:description/>
  <dc:language>en-US</dc:language>
  <cp:lastModifiedBy>FradkiL</cp:lastModifiedBy>
  <dcterms:modified xsi:type="dcterms:W3CDTF">2010-05-25T14:13:59Z</dcterms:modified>
  <cp:revision>5</cp:revision>
  <dc:subject/>
  <dc:title>Slide 1</dc:title>
</cp:coreProperties>
</file>